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C9C-0EFC-47AD-B111-3F134A6A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11D-D192-4197-8E72-52B445DD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F37-68BC-40DA-AB77-BCF9B23B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0D0-1A4B-487B-BC94-2A24FC02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1F8C-D78E-441E-8116-CFAB6E63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F8D-3CC3-4279-BD4D-DB3F5935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58CB-5805-4A3F-A498-46E9BD0C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8A5-4D4C-4E16-9F67-C32A2338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59D-43F6-4A62-B940-9F6C019F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A7C-FF89-4EE4-892D-1A25759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5D5-7A95-4A69-A496-C1166294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1564-F5E7-4630-A798-B37ADFA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561D-D4DB-4AF3-841B-C9AE64EEAB75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Wolfgang Klebsch</cp:lastModifiedBy>
  <dcterms:modified xsi:type="dcterms:W3CDTF">2006-02-10T08:10:59Z</dcterms:modified>
  <cp:revision>59</cp:revision>
  <dc:subject/>
  <dc:title>Jerry - DL</dc:title>
</cp:coreProperties>
</file>